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AC42D-0A84-4D6F-802E-8EEFA81886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not Dynamic: With pull down, overlaps With pull up, dead space during precharge. Probably more p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rst m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oder: we only use one 1 Row decoder to save space, unlike the text boo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book has one row decoder per blo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vantages, less decoders =&gt; cut down in space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dvantages =&gt; each decoders will have more load but had logics to choose which bank of WL to charge 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iginal plan to expand this for burst m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decoders are for Read (Column, Bank) Write (Column, Ban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2" marL="9144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e chose to use an unsual addressing scheme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ince our caches 8kbytes in size, it means 11 bits for addressing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e used the first bit… blah blah…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is means that instead of reading in blocks, we read across all our 16 blocks. After reading 2 words, instead of going to the next row to read the next word we would go to the next block to read the next wor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reason for this addressing scheme was to implement our special feature called Burst Mod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urst Mode would allow us to read multiple words in one cycle. Burst mode is built around the idea of spatial locality where when reading one data there is a very high chance of reading the next few words. Our addressing scheme would allow parallel reading of word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o achieve this we used these decodes…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owever, Burst mode meant more complex logic. Unfortunately, we haven’t gotten to implement in testing because of time constraint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che 8kBytes, 2 words per column in a bank, 16 banks, 64 rows =&gt; 1 column, 4 bank, 6 row decod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address progresses horizontally unlike usu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tended to work for  Burst Mo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ading not only one words but multiple words in parallel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 words Burst Mo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patial Locali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igger Output Bus, logics to choose banks and W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d not have enough tim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D066B-E097-4422-A385-75DB6F7B8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89BC4-4CB2-4443-A58A-D8D86A429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EEBF9-B4D3-4CF9-9AEA-647A3991B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FF099-7298-48A1-8B05-87FB7B608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8DAAE-0944-4F6C-9752-5071FE50A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3B935-612E-4D57-95AB-ABCB95B2D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B7AD3-AB09-43C7-B83F-4D79253C6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642FE-8DA9-417A-AECB-47DB6CF5A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50781-5144-4733-B076-B7D5D3E75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6C0F5-2768-4614-A293-B62C8CB3C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799F7-335A-47C1-8AB0-4CEA6C159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78B40-CEDA-4C5F-9385-8602EA56D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482A5-41AE-4C40-8418-0DAD81E5B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C62E4-FE16-44A5-99F7-D1B2576AF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48262-DAAA-47AE-8975-2767BEE5B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22D90-BCAC-4A7B-8B1D-398AC55E1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BDF36-EC21-4407-A66B-3C7139CF1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4435B-76CC-4DC7-873A-16EAD7E12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45133-391A-4899-93DA-622F49D7C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A9D22-A56E-4FA8-8C0A-FFE92C7CF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476DE-3CCB-443D-AD80-1D6504FB3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C1C8B-6A9C-4108-8BCE-9C8495710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05D5D-FC19-4F43-8D8C-214243CE4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BBAC7-7976-46B4-A83B-9748A8D46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03B17-115D-46F7-AA3A-F69DDD3B963C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1337B-1643-407A-83F1-1E92FF31BDB6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High Speed Cache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CE 432 Group 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aron Albi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Jisoon Ki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iwamu Sat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Bitcell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040" y="1980720"/>
            <a:ext cx="61722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ide Cell Bitcel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dvantage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ess Vari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ise Margi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tatic: 1.58V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ad : 0.76V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rite : 1.6V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6.35 X 7.2 u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5872320" y="1981080"/>
          <a:ext cx="1779480" cy="198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72320" y="1981080"/>
                    <a:ext cx="1779480" cy="19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2" name=""/>
          <p:cNvGraphicFramePr/>
          <p:nvPr/>
        </p:nvGraphicFramePr>
        <p:xfrm>
          <a:off x="3657600" y="2590920"/>
          <a:ext cx="5335560" cy="3597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57600" y="2590920"/>
                    <a:ext cx="5335560" cy="359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Peripheral Circuitry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14400" y="1828440"/>
            <a:ext cx="76960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cod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sed static CM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elay of 6-64 decoder: 3.14 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ux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sed transmission gat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elay of 16-1 Mux: 2.81 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ulse generator for WL and S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o decrease power consumption, by the WL and BL BLB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o ensure WL is not high during pre-charge tim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Block Addressing Schem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1 bits Address. 0 for column, 1-4 for bank address and 5-10 for the row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llows for Burst Mod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 Column and 2 Bank Decoders for read and write, 1 row decod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990720" y="4343400"/>
            <a:ext cx="7238880" cy="23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Simulation Result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rea of SRAM: 6.5mm X 2.5mm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0.7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</a:rPr>
              <a:t> .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</a:rPr>
              <a:t>6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um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20.7mm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tal Power: 669.8 mW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tal Delay: 6.8 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ad Delay: 6.8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rite Delay: 6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echarge Delay 4.4 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otal Cycle 11 ns  91MHz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etric = 6.411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 .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8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W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 .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s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2 .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icron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380880" y="533520"/>
            <a:ext cx="8610840" cy="5740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 rot="1920000">
            <a:off x="2285640" y="3048120"/>
            <a:ext cx="2057400" cy="8380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723920" y="838080"/>
            <a:ext cx="1219320" cy="160020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914400" y="3276360"/>
            <a:ext cx="121932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Improvement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ther Types of Faster Decod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yon Schediwy Decoder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d Mux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urst Mod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4267080" y="2209680"/>
            <a:ext cx="4876920" cy="36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1T20:18:02Z</dcterms:created>
  <dc:creator>aaron albin</dc:creator>
  <dc:description/>
  <dc:language>en-US</dc:language>
  <cp:lastModifiedBy>aaron albin</cp:lastModifiedBy>
  <dcterms:modified xsi:type="dcterms:W3CDTF">2007-12-06T04:26:06Z</dcterms:modified>
  <cp:revision>5</cp:revision>
  <dc:subject/>
  <dc:title>High Speed Cache </dc:title>
</cp:coreProperties>
</file>